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72880" y="677520"/>
            <a:ext cx="451332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9C17-F7B8-4A04-A20E-1E8C7BB093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D152-017B-4CF6-B813-84FF4E52BE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9D14-0E8A-43E2-B07E-A3BF14209E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75A3-240C-4FDE-8E4C-76AE1D1D51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E384-5A0A-477B-8B8D-C19B827C75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5F0E-14E8-4548-884C-CD07F3F92C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8C4B-5D62-4502-8E79-62505EE700A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AF9-FF8F-40E8-8256-7A23CA28B9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0998-A071-4E54-8304-01DE7EDE95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751-3341-498C-B313-FCA020F15F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5CC7-BC9C-47A4-8021-92B90BD76A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DFC3-32D3-428B-9CCF-7DE3E51F8D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DB57-BC70-4779-94F5-4D4A7DC41D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E24F-2D08-448C-AD49-97EC89B876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D4BB-944C-4226-AB97-3E26786D9E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F57A-2341-4CAD-BD6C-5A013049A7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DF52-D83C-49AA-8EC4-BA1B552C46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450C-8B2B-4239-B7B9-4D5CD96C4D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B4E7-CD4E-4002-A612-3DAD90B5D6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74E5-00A2-45E5-80E2-AE553D1708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225-8D61-4F00-928D-C7C4629C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692-B14F-46E6-8476-33192751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392-1944-4D12-A670-E584976E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55D-F199-41FB-9588-6C038DD7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A9D2-5D4E-4CE0-8EFE-41BB63B3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165E-A0B6-47CA-9C91-E755DFA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4780-3A93-4008-9468-511B4748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CEEB-5FC3-4A17-9CA6-563B82B7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0BD2-FEB9-48C0-98E1-D1880CDA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A40D-C04C-4C56-B5D4-203022C2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C8DF-3FB8-4ED1-A54E-6452F17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E60-6CCE-4B98-9B60-EA7A9F13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314E-1637-445F-9564-3B4A62D6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93A4-11CE-4888-B2C0-490144F0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498D-C058-414E-99ED-7987F435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F559-63BD-450C-AB18-04095732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D9B5-783B-4EC5-B3E7-1E85419D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C86-3B9E-4273-96D5-48B2F63A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074-9B38-493F-A11B-167A72CE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C25-FE13-435C-A692-83B6BA95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FCA-ADBC-4E7C-AF11-A2EDF5E7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B0D-A230-43D7-B47B-29A05E27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9A4-C04B-4A1E-A464-1BDBB22D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40C-5030-4E4F-9F45-2DCF1F8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8FBA-5BBA-4A98-ACB5-EDB05F79E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6774-A7E2-4A9D-90FF-7D1639BC5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547640" y="2492280"/>
            <a:ext cx="6629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EL MERCADO INTERNACIONAL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Y NACIONAL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DE LA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CARNE DE CONEJO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08" name="Object 14"/>
          <p:cNvGraphicFramePr/>
          <p:nvPr/>
        </p:nvGraphicFramePr>
        <p:xfrm>
          <a:off x="324000" y="0"/>
          <a:ext cx="151128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151128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838080" y="1981080"/>
            <a:ext cx="6782040" cy="213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743200" y="24382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CONSUMO DE LA CARNE DE CONEJO</a:t>
            </a:r>
            <a:endParaRPr b="0" lang="en-US" sz="36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914400" y="2057400"/>
          <a:ext cx="16765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1676520" cy="20160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468360" y="85680"/>
            <a:ext cx="8351640" cy="825480"/>
          </a:xfrm>
          <a:prstGeom prst="rect">
            <a:avLst/>
          </a:prstGeom>
          <a:solidFill>
            <a:srgbClr val="497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31d2d"/>
                </a:solidFill>
                <a:latin typeface="Arial"/>
              </a:rPr>
              <a:t>Principales países consumidores de 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31d2d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c31d2d"/>
                </a:solidFill>
                <a:latin typeface="Arial"/>
              </a:rPr>
              <a:t>carne de conejo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39640" y="13986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Malta                                                                       8.205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Italia                                                                       5.284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Chipre                                                                     4.079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Bielorusia                                                               2.893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España                                                                    2.752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Ucrania                                                                 2.234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Bélgica                                                                  2.199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Francia                                                                  2.077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ortugal                                                                2.04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Luxemburgo                                                          1.932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p. Checa                                                            1.704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42031"/>
                </a:solidFill>
                <a:latin typeface="Tahoma"/>
              </a:rPr>
              <a:t>México                                                                    0.159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981000"/>
            <a:ext cx="8351640" cy="8254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País                                                                          kg / hab        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5280" y="630864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imes New Roman"/>
              </a:rPr>
              <a:t>Lebas y Colin,2001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838080" y="1981080"/>
            <a:ext cx="6782040" cy="213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286000" y="227016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COMERCIO INTERNACIONAL</a:t>
            </a:r>
            <a:endParaRPr b="0" lang="en-US" sz="40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914400" y="2057400"/>
          <a:ext cx="16765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1676520" cy="20160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5" descr="Mapa cont americano"/>
          <p:cNvPicPr/>
          <p:nvPr/>
        </p:nvPicPr>
        <p:blipFill>
          <a:blip r:embed="rId1"/>
          <a:stretch/>
        </p:blipFill>
        <p:spPr>
          <a:xfrm>
            <a:off x="250920" y="765000"/>
            <a:ext cx="2820960" cy="547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Mapa cont europeo"/>
          <p:cNvPicPr/>
          <p:nvPr/>
        </p:nvPicPr>
        <p:blipFill>
          <a:blip r:embed="rId2"/>
          <a:stretch/>
        </p:blipFill>
        <p:spPr>
          <a:xfrm>
            <a:off x="5580000" y="765000"/>
            <a:ext cx="330984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143160" y="1382760"/>
            <a:ext cx="2362320" cy="4850280"/>
          </a:xfrm>
          <a:prstGeom prst="rect">
            <a:avLst/>
          </a:prstGeom>
          <a:solidFill>
            <a:srgbClr val="4f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China           25.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Hungría          8.4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olonia           6.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Bélgica           5.3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rancia           5.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aíses bajos  5.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spaña           3.4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Argentina       3.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namarca     3.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p. Checa    2.5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. U. A.           2.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Yugoslavia     1.5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24000" y="6211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bas y Colin, 2001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43160" y="765000"/>
            <a:ext cx="2362320" cy="532800"/>
          </a:xfrm>
          <a:prstGeom prst="rect">
            <a:avLst/>
          </a:prstGeom>
          <a:solidFill>
            <a:srgbClr val="4f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ís    Miles ton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1619280" y="2133720"/>
            <a:ext cx="1639800" cy="3433680"/>
          </a:xfrm>
          <a:prstGeom prst="pie">
            <a:avLst/>
          </a:prstGeom>
          <a:noFill/>
          <a:ln w="507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250920" y="228600"/>
            <a:ext cx="8664480" cy="459720"/>
          </a:xfrm>
          <a:prstGeom prst="rect">
            <a:avLst/>
          </a:prstGeom>
          <a:solidFill>
            <a:srgbClr val="3f8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232d"/>
                </a:solidFill>
                <a:latin typeface="Arial"/>
              </a:rPr>
              <a:t>Principales países exportadores de carne de conejo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457200" y="196920"/>
            <a:ext cx="8534520" cy="459720"/>
          </a:xfrm>
          <a:prstGeom prst="rect">
            <a:avLst/>
          </a:prstGeom>
          <a:solidFill>
            <a:srgbClr val="6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232d"/>
                </a:solidFill>
                <a:latin typeface="Arial"/>
              </a:rPr>
              <a:t>Principales países Importadores de carne de conejo         </a:t>
            </a:r>
            <a:r>
              <a:rPr b="1" lang="es-ES_tradnl" sz="2400" spc="-1" strike="noStrike">
                <a:solidFill>
                  <a:srgbClr val="fb23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" y="650088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bas y Colin, 2001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836640"/>
            <a:ext cx="352728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ís                    Miles ton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68360" y="1346040"/>
            <a:ext cx="3527280" cy="5725080"/>
          </a:xfrm>
          <a:prstGeom prst="rect">
            <a:avLst/>
          </a:prstGeom>
          <a:solidFill>
            <a:srgbClr val="6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aíses bajos          9.49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ino Unido           9.0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ancia                   8.45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lemania                6.84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talia                        5.01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Bélgica                   5.0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spaña                   3.5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usia                      3.93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anada                   3.0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.U.A.                      3.0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pic>
        <p:nvPicPr>
          <p:cNvPr id="170" name="Picture 9" descr="Mapa cont europeo 2"/>
          <p:cNvPicPr/>
          <p:nvPr/>
        </p:nvPicPr>
        <p:blipFill>
          <a:blip r:embed="rId1"/>
          <a:stretch/>
        </p:blipFill>
        <p:spPr>
          <a:xfrm>
            <a:off x="4067280" y="765000"/>
            <a:ext cx="48718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72230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116000" y="1989000"/>
            <a:ext cx="712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os estudios de mercado son indispensables para conocer las necesidades  y preferencias de los consumidore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258920" y="1810800"/>
            <a:ext cx="6985080" cy="264924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000000"/>
              </a:gs>
              <a:gs pos="100000">
                <a:srgbClr val="000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El gusto por el sabor de la carne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La disponibilidad del producto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Conocimiento de las diferentes formas de preparación (saberlo guisar)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Tener su propia cría de conejos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Que la carne fuera más barata 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Mejorar la presentación de la canal. 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675160" y="7650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condicionantes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755640" y="2438280"/>
            <a:ext cx="8388000" cy="1676160"/>
            <a:chOff x="755640" y="2438280"/>
            <a:chExt cx="8388000" cy="1676160"/>
          </a:xfrm>
        </p:grpSpPr>
        <p:sp>
          <p:nvSpPr>
            <p:cNvPr id="176" name="Rectangle 3"/>
            <p:cNvSpPr/>
            <p:nvPr/>
          </p:nvSpPr>
          <p:spPr>
            <a:xfrm>
              <a:off x="2806200" y="2438280"/>
              <a:ext cx="6151320" cy="1676160"/>
            </a:xfrm>
            <a:prstGeom prst="rect">
              <a:avLst/>
            </a:prstGeom>
            <a:solidFill>
              <a:srgbClr val="0038ec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3066480" y="2819160"/>
              <a:ext cx="607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ccecff"/>
                  </a:solidFill>
                  <a:latin typeface="Times New Roman"/>
                </a:rPr>
                <a:t>RESTAURANTES</a:t>
              </a:r>
              <a:endParaRPr b="0" lang="en-US" sz="5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graphicFrame>
          <p:nvGraphicFramePr>
            <p:cNvPr id="178" name="Object 5"/>
            <p:cNvGraphicFramePr/>
            <p:nvPr/>
          </p:nvGraphicFramePr>
          <p:xfrm>
            <a:off x="755640" y="2438280"/>
            <a:ext cx="205056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438280"/>
                      <a:ext cx="2050560" cy="167616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042920" y="4251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ejos comercializados semanalmente  en restaurantes de Texcoco, media y total.</a:t>
            </a: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1555920"/>
          <a:ext cx="7416720" cy="3528720"/>
        </p:xfrm>
        <a:graphic>
          <a:graphicData uri="http://schemas.openxmlformats.org/drawingml/2006/table">
            <a:tbl>
              <a:tblPr/>
              <a:tblGrid>
                <a:gridCol w="3625920"/>
                <a:gridCol w="1263600"/>
                <a:gridCol w="1263600"/>
                <a:gridCol w="1263600"/>
              </a:tblGrid>
              <a:tr h="17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ú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ro de restaurantes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.E.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</a:tr>
              <a:tr h="17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6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3.8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2" name="Rectangle 24"/>
          <p:cNvSpPr/>
          <p:nvPr/>
        </p:nvSpPr>
        <p:spPr>
          <a:xfrm>
            <a:off x="1105920" y="531432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E.E. = Error estándar</a:t>
            </a:r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971640" y="1557360"/>
            <a:ext cx="741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971640" y="2852640"/>
            <a:ext cx="741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971640" y="5084640"/>
            <a:ext cx="741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14400" y="1981080"/>
            <a:ext cx="7391520" cy="213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895480" y="27273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CONCLUSIONES</a:t>
            </a:r>
            <a:endParaRPr b="0" lang="en-US" sz="40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914400" y="2057400"/>
          <a:ext cx="16765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1676520" cy="20160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609480" y="2590920"/>
            <a:ext cx="8076960" cy="1676160"/>
            <a:chOff x="609480" y="2590920"/>
            <a:chExt cx="8076960" cy="1676160"/>
          </a:xfrm>
        </p:grpSpPr>
        <p:sp>
          <p:nvSpPr>
            <p:cNvPr id="111" name="Rectangle 3"/>
            <p:cNvSpPr/>
            <p:nvPr/>
          </p:nvSpPr>
          <p:spPr>
            <a:xfrm>
              <a:off x="2583720" y="2590920"/>
              <a:ext cx="5923080" cy="1676160"/>
            </a:xfrm>
            <a:prstGeom prst="rect">
              <a:avLst/>
            </a:prstGeom>
            <a:solidFill>
              <a:srgbClr val="0038e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sp>
          <p:nvSpPr>
            <p:cNvPr id="112" name="Text Box 4"/>
            <p:cNvSpPr/>
            <p:nvPr/>
          </p:nvSpPr>
          <p:spPr>
            <a:xfrm>
              <a:off x="2834640" y="2971800"/>
              <a:ext cx="585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graphicFrame>
          <p:nvGraphicFramePr>
            <p:cNvPr id="113" name="Object 5"/>
            <p:cNvGraphicFramePr/>
            <p:nvPr/>
          </p:nvGraphicFramePr>
          <p:xfrm>
            <a:off x="609480" y="2590920"/>
            <a:ext cx="197424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590920"/>
                      <a:ext cx="1974240" cy="167616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15" name="Text Box 6"/>
          <p:cNvSpPr/>
          <p:nvPr/>
        </p:nvSpPr>
        <p:spPr>
          <a:xfrm>
            <a:off x="2744640" y="297180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INTRODUCCION</a:t>
            </a:r>
            <a:endParaRPr b="0" lang="en-US" sz="5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14400" y="1295280"/>
            <a:ext cx="7238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 mayor producción de carne de conejo se concentra en 6  países, principalmente de Europa Occidental; por lo que se le considera como el centro de producción mundial.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l consumo per cápita de la carne de conejo es mayor de 1 kg en la mayoría de los países europeos, donde es una tradición histórica. 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914400" y="655560"/>
            <a:ext cx="7407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l comercio internacional de la carne de conejo (exportaciones e importaciones) asciende a 91,000 toneladas anuales, que representa apenas el 6 % de la producción mundial, lo cual indica que la mayor producción se destina para autoconsumo.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2230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638520" y="3477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042920" y="981000"/>
            <a:ext cx="734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ahoma"/>
              </a:rPr>
              <a:t>La comercialización de la carne de conejo a través de los restaurantes del municipio de Texcoco es importante ya que del conejo que se comercializa por este medio, tres cuartas partes se produce en el mismo municipio y solamente una cuarta parte procede de otro municipio.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42920" y="2781360"/>
            <a:ext cx="7305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ahoma"/>
              </a:rPr>
              <a:t>En los restaurantes del municipio de Texcoco se comercializan 17.958 toneladas de carne de conejo al año de los cuales las granjas particulares proveen el 54 %, los intermediarios 16 % y los productores a escala familiar el 15 %.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42920" y="4508640"/>
            <a:ext cx="72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ahoma"/>
              </a:rPr>
              <a:t>Las causas por las cuales el 50 % de los restaurantes no incluyen conejo en su menú fueron principalmente la disponibilidad del producto,  la falta de demanda de los consumidores por este producto y el precio elevado de la carne.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62120" y="1447920"/>
            <a:ext cx="771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a cunicultura hoy en día juega un papel importante en  algunas  regiones del mundo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egún la ONU, (1999) la carne de conejo constituirá en el corto plazo, un alimento muy  importante en la dieta de una alta proporción de la población de países pobres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ualmente la FAO promociona un plan mundial para incrementar la cría del conejo en el mundo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609480" y="2590920"/>
            <a:ext cx="8076960" cy="1676160"/>
            <a:chOff x="609480" y="2590920"/>
            <a:chExt cx="8076960" cy="1676160"/>
          </a:xfrm>
        </p:grpSpPr>
        <p:sp>
          <p:nvSpPr>
            <p:cNvPr id="118" name="Rectangle 3"/>
            <p:cNvSpPr/>
            <p:nvPr/>
          </p:nvSpPr>
          <p:spPr>
            <a:xfrm>
              <a:off x="2583720" y="2590920"/>
              <a:ext cx="5923080" cy="1676160"/>
            </a:xfrm>
            <a:prstGeom prst="rect">
              <a:avLst/>
            </a:prstGeom>
            <a:solidFill>
              <a:srgbClr val="0038e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sp>
          <p:nvSpPr>
            <p:cNvPr id="119" name="Text Box 4"/>
            <p:cNvSpPr/>
            <p:nvPr/>
          </p:nvSpPr>
          <p:spPr>
            <a:xfrm>
              <a:off x="2834640" y="2971800"/>
              <a:ext cx="585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graphicFrame>
          <p:nvGraphicFramePr>
            <p:cNvPr id="120" name="Object 5"/>
            <p:cNvGraphicFramePr/>
            <p:nvPr/>
          </p:nvGraphicFramePr>
          <p:xfrm>
            <a:off x="609480" y="2590920"/>
            <a:ext cx="197424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590920"/>
                      <a:ext cx="1974240" cy="167616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22" name="Text Box 6"/>
          <p:cNvSpPr/>
          <p:nvPr/>
        </p:nvSpPr>
        <p:spPr>
          <a:xfrm>
            <a:off x="2745000" y="2971800"/>
            <a:ext cx="49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PRODUCCION</a:t>
            </a:r>
            <a:endParaRPr b="0" lang="en-US" sz="5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"/>
          <p:cNvSpPr/>
          <p:nvPr/>
        </p:nvSpPr>
        <p:spPr>
          <a:xfrm>
            <a:off x="826920" y="1341360"/>
            <a:ext cx="7920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Según Lebas y Colin (2001), la producción mundial de conejos puede ser estimada en 1.84 millones de toneladas de carne, lo que representa un crecimiento del 14 % en relación a la estimación de 1996.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sto nos conduce a un consumo medio mundial de 300 gramos/hab/año.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546920" y="115920"/>
            <a:ext cx="5955120" cy="459720"/>
          </a:xfrm>
          <a:prstGeom prst="rect">
            <a:avLst/>
          </a:prstGeom>
          <a:solidFill>
            <a:srgbClr val="6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42031"/>
                </a:solidFill>
                <a:latin typeface="Arial"/>
              </a:rPr>
              <a:t>Producción mundial de carne de conejo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1981080"/>
            <a:ext cx="7848720" cy="213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0" y="213372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POBLACION DE CONEJAS REPRODUCTORAS</a:t>
            </a:r>
            <a:endParaRPr b="0" lang="en-US" sz="40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914400" y="2057400"/>
          <a:ext cx="16765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1676520" cy="20160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4572000" y="3429000"/>
            <a:ext cx="4321080" cy="252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14400" y="304920"/>
            <a:ext cx="7696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aíses con más de  3 millones  de coneja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68360" y="5562720"/>
            <a:ext cx="387504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Total          33,656                   5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7640" y="604512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lin y Lebas, 1996</a:t>
            </a: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bas y Colin, 2001</a:t>
            </a: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8360" y="2117880"/>
            <a:ext cx="387504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talia             7,376                   1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hina           6,061                   1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Ucrania        4,958                     8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Rusia           4,246                     7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Francia        3,916                     6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spaña        3,864                     6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gipto          3,235                     5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1574640"/>
            <a:ext cx="3875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aís            Miles                    %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711680" y="4952880"/>
            <a:ext cx="42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7  países  está  concentrada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52 % de la población mundial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785840" y="3789360"/>
            <a:ext cx="40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996    64.2 millone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0    71.1 millones (10 % +)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pic>
        <p:nvPicPr>
          <p:cNvPr id="137" name="Picture 13" descr="conejos frente a frente"/>
          <p:cNvPicPr/>
          <p:nvPr/>
        </p:nvPicPr>
        <p:blipFill>
          <a:blip r:embed="rId1"/>
          <a:stretch/>
        </p:blipFill>
        <p:spPr>
          <a:xfrm>
            <a:off x="4572000" y="1557360"/>
            <a:ext cx="4321080" cy="1913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5"/>
          <p:cNvSpPr/>
          <p:nvPr/>
        </p:nvSpPr>
        <p:spPr>
          <a:xfrm>
            <a:off x="4937040" y="3284640"/>
            <a:ext cx="3262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ejas reproductora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3" descr="Mapa mundo2"/>
          <p:cNvPicPr/>
          <p:nvPr/>
        </p:nvPicPr>
        <p:blipFill>
          <a:blip r:embed="rId1"/>
          <a:stretch/>
        </p:blipFill>
        <p:spPr>
          <a:xfrm>
            <a:off x="826920" y="1052640"/>
            <a:ext cx="769176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762120" y="1295280"/>
            <a:ext cx="7772400" cy="448236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donesia                          2,698                    4.2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.U.A.                               2,422                     3.8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Nigeria                              2,107                     3.3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ilipinas                            1,609                     2.5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emania                          1,458                     2.3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Bielorusia                         1,341                     2.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gelia                              1,043                     1.6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ailandia                          1,028                      1.6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México                             1,018                      1.5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120" y="152280"/>
            <a:ext cx="7772400" cy="45972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aíses con más de 1 millón de coneja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62120" y="5867280"/>
            <a:ext cx="7772400" cy="4291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Arial"/>
              </a:rPr>
              <a:t>Total                                  14,724                        23.0</a:t>
            </a:r>
            <a:endParaRPr b="0" lang="en-US" sz="2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85800" y="6400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lin y Lebas, 1996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2120" y="762120"/>
            <a:ext cx="777240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aís                                 Miles                     %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657600" y="5257800"/>
            <a:ext cx="32004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187280" y="1557360"/>
            <a:ext cx="662652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INEGI (1994) reporta un total de 673,145 cabezas a nivel nacional y menciona que la mayoría de las unidades de producción son rurales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1:52:34Z</dcterms:created>
  <dc:creator>César Gamboa Ramírez</dc:creator>
  <dc:description/>
  <dc:language>en-US</dc:language>
  <cp:lastModifiedBy>Yolanda</cp:lastModifiedBy>
  <dcterms:modified xsi:type="dcterms:W3CDTF">2009-09-18T14:17:23Z</dcterms:modified>
  <cp:revision>91</cp:revision>
  <dc:subject/>
  <dc:title>Sin título de diapositiva</dc:title>
</cp:coreProperties>
</file>